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154-6D49-4A9F-82E1-6B7DAEBB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F24-9FCE-47FA-9EF0-9B12BA84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310-D508-43EA-96D9-7B1C288D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296-FF67-4BF1-AC0D-97E1E0F5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8E5-EE53-48B8-BCA9-09AA600F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B27-735F-4DD6-BF71-81950D55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B62-A858-49DF-88DF-EC26BD76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99B-6E1A-41C9-8DB2-228E62B8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EF6-62C4-4F70-BB41-985CDA1E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3FC-ED47-429F-AC21-ED89855A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BF7-6CFA-435F-A548-11AB92F7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2CA-F962-4170-B5D4-E5526CDE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FC1F-0A44-49D6-AB06-E0EBB900C0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708360" y="6092640"/>
            <a:ext cx="53928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nsdag 17 nov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 rot="20982000">
            <a:off x="900000" y="404640"/>
            <a:ext cx="4017960" cy="197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2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Poetr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2843280" y="2637000"/>
            <a:ext cx="3727440" cy="18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Welk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 spd="slow"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5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Kinderliedjes zijn ook gedichte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t Visscher,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baret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k op 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aa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ttp://www.youtube.com/watch?v=mucSwmm4BbU&amp;feature=player_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6198840" y="566100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Je bent klaar,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dit het eind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9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Verdana"/>
              </a:rPr>
              <a:t>Wat </a:t>
            </a:r>
            <a:br>
              <a:rPr sz="5400"/>
            </a:b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gaan we doen vanda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dichten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ilmpjes bekijken over gedichte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ringassociatie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Elfje gedicht 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lligraf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uisteren naar een d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Verdana"/>
              </a:rPr>
              <a:t>En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2843280" y="5229360"/>
            <a:ext cx="59338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ten we snel beginnen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539640" y="981000"/>
            <a:ext cx="82296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Verdana"/>
              </a:rPr>
              <a:t>heb je er zin 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50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50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ha ha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nterklaar kapoen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oi wat in mijn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en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… 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knock-out"/>
          <p:cNvPicPr/>
          <p:nvPr/>
        </p:nvPicPr>
        <p:blipFill>
          <a:blip r:embed="rId1"/>
          <a:stretch/>
        </p:blipFill>
        <p:spPr>
          <a:xfrm>
            <a:off x="5176800" y="1652760"/>
            <a:ext cx="2895480" cy="37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6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7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n jij het be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k dan op 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aa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perlin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://www.youtube.com/watch?v=rHHMaiNyzt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n je klaa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k dan </a:t>
            </a:r>
            <a:r>
              <a:rPr b="0" lang="nl-NL" sz="2000" spc="-1" strike="noStrike">
                <a:solidFill>
                  <a:srgbClr val="009999"/>
                </a:solidFill>
                <a:latin typeface="Arial"/>
              </a:rPr>
              <a:t>HIE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gaan we verd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maakt een tekst tot een gedic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8275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gedich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is voo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schilderij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portre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fo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momentopn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oorden zijn als ve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ij schildert met wo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gedicht is een afgerond gehee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92360" y="177336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en verhaal is me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en fil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r is een ontwikkel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en intri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en serie opeenvolgende gebeurteni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Bij een gedicht laat je woorden weg die niets toevo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808800" y="5942160"/>
            <a:ext cx="248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Ben je klaar,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klik da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IER</a:t>
            </a: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dan gaan we verde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8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8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8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8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2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6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1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6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50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6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9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6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8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6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6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6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6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Arial"/>
              </a:rPr>
              <a:t>Tip om een gedicht </a:t>
            </a:r>
            <a:br>
              <a:rPr sz="4000"/>
            </a:br>
            <a:r>
              <a:rPr b="1" lang="nl-NL" sz="4000" spc="-1" strike="noStrike">
                <a:solidFill>
                  <a:srgbClr val="ffffff"/>
                </a:solidFill>
                <a:latin typeface="Arial"/>
              </a:rPr>
              <a:t>te schrij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464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tip is v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jiba Abdellaou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jiba (27) heeft de Nationale Kampioenschappen van Poetry Slam 2008 gewonnen, als eerste vrouw én allochto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etry Slam is een moderne vorm van poëzievoordracht, waarbij de dichters met elkaar in competitie ga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ik op onderstaande hyperlink voor de tip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cc00"/>
                </a:solidFill>
                <a:latin typeface="Arial"/>
              </a:rPr>
              <a:t>http://www.youtube.com/watch?v=fU2yuciwPC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638880" y="5942160"/>
            <a:ext cx="248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Ben je klaar,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klik da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IER</a:t>
            </a: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dan gaan we verde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8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21844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lik op de onderstaande hyperli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ainpower maakt hiphop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&amp; rap muz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ij vertelt over zijn publiek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&amp; zijn tekste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www.zie.nl/videos/Brainpower---2009---On-the-Record/m1dzhlkft99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6375960" y="5942160"/>
            <a:ext cx="248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Ben je klaar,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klik dan 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IER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dan gaan we verde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8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8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8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Een gedicht kan ook kor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82400" y="2031840"/>
            <a:ext cx="736596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ik op de onderstaande hyperli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://www.youtube.com/watch?v=LEGlMgq7Fm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159960" y="5661000"/>
            <a:ext cx="248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Ben je klaar,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klik da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IER</a:t>
            </a: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800" spc="-1" strike="noStrike">
                <a:solidFill>
                  <a:srgbClr val="009999"/>
                </a:solidFill>
                <a:latin typeface="Arial"/>
              </a:rPr>
              <a:t>dan gaan we verde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9:23:35Z</dcterms:created>
  <dc:creator>Leerling</dc:creator>
  <dc:description/>
  <dc:language>en-US</dc:language>
  <cp:lastModifiedBy>1555966</cp:lastModifiedBy>
  <dcterms:modified xsi:type="dcterms:W3CDTF">2010-01-11T09:51:31Z</dcterms:modified>
  <cp:revision>13</cp:revision>
  <dc:subject/>
  <dc:title>Dia 1</dc:title>
</cp:coreProperties>
</file>